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1EC-93C4-4ABE-8498-D23B8D58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BE8-10C7-4B98-95F4-94E0F94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F64-243D-48EA-B33D-7E14637C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5D3-14BD-4623-AD4D-BC18B78F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D50-AF4F-4266-ACDB-3436458D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110-ED6B-47F5-9A68-E41A2D6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AB1-4313-437E-8F4F-FD61821B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EFA-6D6E-4CF7-9C4C-BBB2799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0F2-69A6-4618-858C-CFA5B3A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46F-B202-4D55-9534-6A60804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3F3-0E6E-4A82-9E13-58833D0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D42-4EAB-4623-AB39-B6B1794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E90-19B9-472A-8000-C9FE7A6C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Verb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s. E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an Action Verb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ction verb is a word that shows 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C:\WINDOWS\Application Data\Microsoft\Media Catalog\Downloaded Clips\cl73\j0288932.gif"/>
          <p:cNvPicPr/>
          <p:nvPr/>
        </p:nvPicPr>
        <p:blipFill>
          <a:blip r:embed="rId1"/>
          <a:stretch/>
        </p:blipFill>
        <p:spPr>
          <a:xfrm>
            <a:off x="3276720" y="2895480"/>
            <a:ext cx="2361960" cy="312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is the Action Verb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nie sings a so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verb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ke plays the guit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verb is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il ties his sho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lap our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Action Verb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verbs describe actions that can be hard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p is easy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tch, make, see, lik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harder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>
            <a:hlinkClick r:id="rId1"/>
          </p:cNvPr>
          <p:cNvSpPr/>
          <p:nvPr/>
        </p:nvSpPr>
        <p:spPr>
          <a:xfrm>
            <a:off x="205740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y use sign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we see the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es likes the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WINDOWS\Application Data\Microsoft\Media Catalog\Downloaded Clips\cl7f\j0318069.gif"/>
          <p:cNvPicPr/>
          <p:nvPr/>
        </p:nvPicPr>
        <p:blipFill>
          <a:blip r:embed="rId1"/>
          <a:stretch/>
        </p:blipFill>
        <p:spPr>
          <a:xfrm>
            <a:off x="5715000" y="3505320"/>
            <a:ext cx="2590920" cy="143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Practi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augh with my fri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come from all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dance with the mus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WINDOWS\Application Data\Microsoft\Media Catalog\Downloaded Clips\cl72\j0286709.gif"/>
          <p:cNvPicPr/>
          <p:nvPr/>
        </p:nvPicPr>
        <p:blipFill>
          <a:blip r:embed="rId1"/>
          <a:stretch/>
        </p:blipFill>
        <p:spPr>
          <a:xfrm>
            <a:off x="6248520" y="220968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3:43:38Z</dcterms:created>
  <dc:creator>ucboe ucboe</dc:creator>
  <dc:description/>
  <dc:language>en-US</dc:language>
  <cp:lastModifiedBy>teacher</cp:lastModifiedBy>
  <dcterms:modified xsi:type="dcterms:W3CDTF">2010-11-06T19:39:21Z</dcterms:modified>
  <cp:revision>4</cp:revision>
  <dc:subject/>
  <dc:title>Action Verbs</dc:title>
</cp:coreProperties>
</file>